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BD6-317E-44CC-A0CC-7BB2C5DF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383-B8F4-4D70-AE8E-442196D1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0AE-0FE4-4F67-9F36-30842B84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B21-9000-47EB-925E-F2FFEF2D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3272-DE37-471A-A052-F15FC5B6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BFCC-E350-440C-B5B8-5A382272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3130-F4EA-47AF-9B37-CEB2F1D7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62A1-DAD5-4F12-8EA6-8FD52492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5393-56AC-4392-86DA-5EABA819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7DF8-F79E-4091-BA2C-6B37FF81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8C74-4ACF-4184-B809-EED290EA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CB77-1EC6-49F3-BF18-03A7D269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3667-7B11-4E08-95B5-5565FBD2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006A-82B9-4FFC-A395-D143B65F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0B74-2E20-4CEC-80C7-BB0C6A6B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5487-D755-4168-9AC3-10CBDEBC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F8B8-2BB1-48E0-969B-81CAE9CD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A98B2-6533-4B6C-948E-434C4CBF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B2F90-BBB5-499E-8EC8-CAD2EFEA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0F65E-4FC4-4A24-A040-8B2B6F44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DDC16-440E-4F8C-A47D-EB20B887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E848B-D253-4A4E-820B-11CE4162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4B40-F6D3-4B2D-ACF1-92C0F147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79B73-EA76-419F-A553-DCB696B9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D4F46-53DB-4D79-B909-5919229B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8F855-9656-405A-9B98-A13FC2BE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931A8-0E8B-43B1-B11E-A504E1ED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51568-8A5D-472F-B4EB-DA3AAFD1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B8E41-E1B4-4CE7-946A-C6C36B40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9EF45-0592-41E5-9F6D-64AFE58D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AB6E5-A66E-4C6D-9A16-DD6DD9E8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BA61D-3217-43EA-90FB-82E70EF0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B0EA7-E1B7-472B-B5D8-618ED81A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939-509F-4C86-B2DA-1A5FD653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3A7F9-646D-4F6A-97D2-E78B56B4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3B822-A132-437B-8293-315094E9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275CE-4AAA-42BC-89F0-FE21CD1C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573B5-163B-4B92-A09D-DCFD4BE4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7B696-F81F-4F1D-9C21-F760FF13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67964-2A51-4C94-AD05-8FAE8E69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903D1-59CF-4E2A-B534-4B21D8AE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85585-A07D-40B7-A444-DDD4D249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E28A4-5889-4346-B7AE-13E6B153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1FBFA-6171-47FC-B9C5-78E0A63E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A2B-8418-433B-8406-7D980F16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B3742-5848-462D-96D1-9ECFB013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9C88E-AB96-4D18-A266-8CA6B903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AA618-6302-4538-8553-55BC0675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B8EDF-97AB-4D67-8070-57ED1E41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DEE29-F713-48A3-BFA6-F2C49ECA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F39FA-3CBF-428E-9872-C846FA64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24EBE-D926-4774-AD08-917A3C83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B2A39-5DC4-4F4D-A923-7D213910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C13C4-1247-47AA-A51E-E824FA1D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F3337-39AE-4F04-8F8D-EABE6B34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12D-1BFA-478D-90FB-A9C0E9FA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1650A-956D-4481-A2CF-B961330F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CC739-E386-4D5B-871F-89F654DB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1124C-4527-4ABB-9A4D-BEA312D8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0AE06-ED6D-4AC8-AA65-9D9A819C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BFCFD-1D6D-4FB7-94E2-2EF68B56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C0816-0105-4474-A2A5-711E0667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DB594-B91D-4477-B288-F3F76F1F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577C5-600E-4EB3-8AFA-5E763499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6716D-5F89-4888-ADDF-3E2A0BAF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6155A-1306-48BE-9561-3ECD3F67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D77-2489-4922-B15C-7A86AFAB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3FEE5-AC77-4E5B-8B43-273D16B6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C8802-FFB9-4B55-BC09-65150965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94580-0647-4A99-B915-D7882A58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479FB-7975-455F-955E-5EF87609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3ABD7-D2FA-4B53-A863-EFEE0597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89445-E421-4F70-A93E-F8E6BB17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544AC-F2ED-475B-908E-699802C7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5CC2A-947D-4A3B-A1B9-800861DF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9E375-6BE8-488D-89FF-9D2E3036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F26CA-FFE5-414B-98B7-5E01D441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FFA-44D1-4D1D-AB27-CA5639A7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79594-5951-48BA-8EC7-15655DD4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1992C-27AD-4004-8EF6-7395B44A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76CD5-7EC7-4191-BAE7-E4D162CC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662AD-9E93-4A4F-B2E9-E2A70337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428EE-121D-4EAE-B193-9FDF4396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AD0B0-CBA5-464B-8D4F-E04430CA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0250B-D22A-4E30-8449-A37336A6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FB72A-9985-4E6C-93B8-941B38A2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47CAC-FF13-40E5-95C5-27329497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F3704-7E15-40F3-85D5-9F5A4318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DDCB-8EB6-4B52-B592-68233F78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E6322-F5AE-4D9E-B232-DB0D3178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365A3-F4D7-4D0C-A7BB-6AFFB9A2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9E0B2-800D-48AD-A006-1148A223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C4DBC-CFAD-468B-BC70-1BCEB9ED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CFE2F-ACA5-4EB0-8CDD-D3903722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272EC-B945-416F-90EA-9D4861DD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0CC6B-577F-4353-BAE4-5073AF5E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12"/>
          <p:cNvSpPr/>
          <p:nvPr/>
        </p:nvSpPr>
        <p:spPr>
          <a:xfrm>
            <a:off x="550800" y="6553080"/>
            <a:ext cx="5446800" cy="101628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igura a mano libera 11"/>
          <p:cNvSpPr/>
          <p:nvPr/>
        </p:nvSpPr>
        <p:spPr>
          <a:xfrm>
            <a:off x="534960" y="6546960"/>
            <a:ext cx="4068720" cy="102852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iangolo rettangolo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3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Connettore 1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CD73-AA21-4EB6-BF48-484F9E1B1EE9}" type="slidenum">
              <a:rPr b="0" lang="it-IT" sz="11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igura a mano libera 12"/>
          <p:cNvSpPr/>
          <p:nvPr/>
        </p:nvSpPr>
        <p:spPr>
          <a:xfrm>
            <a:off x="550800" y="6553080"/>
            <a:ext cx="5446800" cy="101628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Figura a mano libera 11"/>
          <p:cNvSpPr/>
          <p:nvPr/>
        </p:nvSpPr>
        <p:spPr>
          <a:xfrm>
            <a:off x="534960" y="6546960"/>
            <a:ext cx="4068720" cy="102852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9" name="Triangolo rettangolo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50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2" name="Connettore 1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53" name="Triangolo rettangolo 10"/>
          <p:cNvSpPr/>
          <p:nvPr/>
        </p:nvSpPr>
        <p:spPr>
          <a:xfrm>
            <a:off x="0" y="5141880"/>
            <a:ext cx="1008864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50040" bIns="-50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4" name="Gruppo 15"/>
          <p:cNvGrpSpPr/>
          <p:nvPr/>
        </p:nvGrpSpPr>
        <p:grpSpPr>
          <a:xfrm>
            <a:off x="-4680" y="5459400"/>
            <a:ext cx="10085400" cy="2108160"/>
            <a:chOff x="-4680" y="5459400"/>
            <a:chExt cx="10085400" cy="2108160"/>
          </a:xfrm>
        </p:grpSpPr>
        <p:sp>
          <p:nvSpPr>
            <p:cNvPr id="55" name="Figura a mano libera 16"/>
            <p:cNvSpPr/>
            <p:nvPr/>
          </p:nvSpPr>
          <p:spPr>
            <a:xfrm>
              <a:off x="1864800" y="5459400"/>
              <a:ext cx="8207640" cy="537120"/>
            </a:xfrm>
            <a:custGeom>
              <a:avLst/>
              <a:gdLst>
                <a:gd name="textAreaLeft" fmla="*/ 0 w 8207640"/>
                <a:gd name="textAreaRight" fmla="*/ 8208000 w 8207640"/>
                <a:gd name="textAreaTop" fmla="*/ 0 h 537120"/>
                <a:gd name="textAreaBottom" fmla="*/ 537480 h 5371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6" name="Figura a mano libera 18"/>
            <p:cNvSpPr/>
            <p:nvPr/>
          </p:nvSpPr>
          <p:spPr>
            <a:xfrm>
              <a:off x="46440" y="5772600"/>
              <a:ext cx="10026000" cy="867960"/>
            </a:xfrm>
            <a:custGeom>
              <a:avLst/>
              <a:gdLst>
                <a:gd name="textAreaLeft" fmla="*/ 0 w 10026000"/>
                <a:gd name="textAreaRight" fmla="*/ 10026360 w 10026000"/>
                <a:gd name="textAreaTop" fmla="*/ 0 h 867960"/>
                <a:gd name="textAreaBottom" fmla="*/ 868320 h 8679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7" name="Figura a mano libera 19"/>
            <p:cNvGrpSpPr/>
            <p:nvPr/>
          </p:nvGrpSpPr>
          <p:grpSpPr>
            <a:xfrm>
              <a:off x="1080" y="5504040"/>
              <a:ext cx="10079640" cy="2063520"/>
              <a:chOff x="1080" y="5504040"/>
              <a:chExt cx="10079640" cy="2063520"/>
            </a:xfrm>
          </p:grpSpPr>
          <p:pic>
            <p:nvPicPr>
              <p:cNvPr id="58" name="Figura a mano libera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080" y="5504040"/>
                <a:ext cx="1007964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6840" y="5511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60" name="Connettore 1 20" descr=""/>
            <p:cNvPicPr/>
            <p:nvPr/>
          </p:nvPicPr>
          <p:blipFill>
            <a:blip r:embed="rId5"/>
            <a:stretch/>
          </p:blipFill>
          <p:spPr>
            <a:xfrm>
              <a:off x="-4680" y="5497920"/>
              <a:ext cx="10079640" cy="89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4BEA-246D-4044-AECF-555F71E76039}" type="slidenum">
              <a:rPr b="0" lang="it-IT" sz="11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igura a mano libera 12"/>
          <p:cNvSpPr/>
          <p:nvPr/>
        </p:nvSpPr>
        <p:spPr>
          <a:xfrm>
            <a:off x="550800" y="6553080"/>
            <a:ext cx="5446800" cy="101628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Figura a mano libera 11"/>
          <p:cNvSpPr/>
          <p:nvPr/>
        </p:nvSpPr>
        <p:spPr>
          <a:xfrm>
            <a:off x="534960" y="6546960"/>
            <a:ext cx="4068720" cy="102852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04" name="Triangolo rettangolo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105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7" name="Connettore 1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108" name="Gallone 10"/>
          <p:cNvSpPr/>
          <p:nvPr/>
        </p:nvSpPr>
        <p:spPr>
          <a:xfrm>
            <a:off x="4008600" y="331308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Gallone 15"/>
          <p:cNvSpPr/>
          <p:nvPr/>
        </p:nvSpPr>
        <p:spPr>
          <a:xfrm>
            <a:off x="3803760" y="331308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5B5D-9686-4AFF-A793-68C29870D3A3}" type="slidenum">
              <a:rPr b="0" lang="it-IT" sz="11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igura a mano libera 12"/>
          <p:cNvSpPr/>
          <p:nvPr/>
        </p:nvSpPr>
        <p:spPr>
          <a:xfrm>
            <a:off x="550800" y="6553080"/>
            <a:ext cx="5446800" cy="101628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Figura a mano libera 11"/>
          <p:cNvSpPr/>
          <p:nvPr/>
        </p:nvSpPr>
        <p:spPr>
          <a:xfrm>
            <a:off x="534960" y="6546960"/>
            <a:ext cx="4068720" cy="102852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53" name="Triangolo rettangolo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154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6" name="Connettore 1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ADF3-96B4-4C66-B180-B25C2A417B11}" type="slidenum">
              <a:rPr b="0" lang="it-IT" sz="11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igura a mano libera 12"/>
          <p:cNvSpPr/>
          <p:nvPr/>
        </p:nvSpPr>
        <p:spPr>
          <a:xfrm>
            <a:off x="550800" y="6553080"/>
            <a:ext cx="5446800" cy="101628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Figura a mano libera 11"/>
          <p:cNvSpPr/>
          <p:nvPr/>
        </p:nvSpPr>
        <p:spPr>
          <a:xfrm>
            <a:off x="534960" y="6546960"/>
            <a:ext cx="4068720" cy="102852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00" name="Triangolo rettangolo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201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03" name="Connettore 1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82A8-8A8E-42B9-8C4C-43B3E0A5103B}" type="slidenum">
              <a:rPr b="0" lang="it-IT" sz="11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igura a mano libera 12"/>
          <p:cNvSpPr/>
          <p:nvPr/>
        </p:nvSpPr>
        <p:spPr>
          <a:xfrm>
            <a:off x="550800" y="6553080"/>
            <a:ext cx="5446800" cy="101628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Figura a mano libera 11"/>
          <p:cNvSpPr/>
          <p:nvPr/>
        </p:nvSpPr>
        <p:spPr>
          <a:xfrm>
            <a:off x="534960" y="6546960"/>
            <a:ext cx="4068720" cy="102852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47" name="Triangolo rettangolo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248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50" name="Connettore 1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3640-0F28-493C-997F-07626E107303}" type="slidenum">
              <a:rPr b="0" lang="it-IT" sz="11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igura a mano libera 12"/>
          <p:cNvSpPr/>
          <p:nvPr/>
        </p:nvSpPr>
        <p:spPr>
          <a:xfrm>
            <a:off x="550800" y="6553080"/>
            <a:ext cx="5446800" cy="101628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Figura a mano libera 11"/>
          <p:cNvSpPr/>
          <p:nvPr/>
        </p:nvSpPr>
        <p:spPr>
          <a:xfrm>
            <a:off x="534960" y="6546960"/>
            <a:ext cx="4068720" cy="102852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94" name="Triangolo rettangolo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295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97" name="Connettore 1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8AF5-5F87-4BA7-B2F3-8CB00BC789C8}" type="slidenum">
              <a:rPr b="0" lang="it-IT" sz="11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igura a mano libera 12"/>
          <p:cNvSpPr/>
          <p:nvPr/>
        </p:nvSpPr>
        <p:spPr>
          <a:xfrm>
            <a:off x="550800" y="6553080"/>
            <a:ext cx="5446800" cy="101628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Figura a mano libera 11"/>
          <p:cNvSpPr/>
          <p:nvPr/>
        </p:nvSpPr>
        <p:spPr>
          <a:xfrm>
            <a:off x="534960" y="6546960"/>
            <a:ext cx="4068720" cy="102852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41" name="Triangolo rettangolo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342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44" name="Connettore 1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345" name="Figura a mano libera 10"/>
          <p:cNvSpPr/>
          <p:nvPr/>
        </p:nvSpPr>
        <p:spPr>
          <a:xfrm>
            <a:off x="550800" y="6553080"/>
            <a:ext cx="5446800" cy="101628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Figura a mano libera 15"/>
          <p:cNvSpPr/>
          <p:nvPr/>
        </p:nvSpPr>
        <p:spPr>
          <a:xfrm>
            <a:off x="534960" y="6546960"/>
            <a:ext cx="4068720" cy="102852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47" name="Triangolo rettangolo 16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348" name="Triangolo rettangolo 16" descr=""/>
            <p:cNvPicPr/>
            <p:nvPr/>
          </p:nvPicPr>
          <p:blipFill>
            <a:blip r:embed="rId4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50" name="Connettore 1 18" descr=""/>
          <p:cNvPicPr/>
          <p:nvPr/>
        </p:nvPicPr>
        <p:blipFill>
          <a:blip r:embed="rId5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351" name="Gallone 19"/>
          <p:cNvSpPr/>
          <p:nvPr/>
        </p:nvSpPr>
        <p:spPr>
          <a:xfrm>
            <a:off x="9551880" y="549900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Gallone 20"/>
          <p:cNvSpPr/>
          <p:nvPr/>
        </p:nvSpPr>
        <p:spPr>
          <a:xfrm>
            <a:off x="9345600" y="549900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F1FD-ABF6-4D93-8F29-E7BA45332A42}" type="slidenum">
              <a:rPr b="0" lang="it-IT" sz="11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CasellaDiTesto 1"/>
          <p:cNvSpPr/>
          <p:nvPr/>
        </p:nvSpPr>
        <p:spPr>
          <a:xfrm>
            <a:off x="1619280" y="2700360"/>
            <a:ext cx="666108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000000"/>
                </a:solidFill>
                <a:latin typeface="Arial"/>
                <a:ea typeface="MS Gothic"/>
              </a:rPr>
              <a:t>IRES</a:t>
            </a:r>
            <a:endParaRPr b="0" lang="en-US" sz="8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CasellaDiTesto 1"/>
          <p:cNvSpPr/>
          <p:nvPr/>
        </p:nvSpPr>
        <p:spPr>
          <a:xfrm>
            <a:off x="1152360" y="2050920"/>
            <a:ext cx="82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ADESSO UN CONFRONTO CON LE ALTRE IMPOSTE…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ttangolo 1"/>
          <p:cNvSpPr/>
          <p:nvPr/>
        </p:nvSpPr>
        <p:spPr>
          <a:xfrm>
            <a:off x="863640" y="6843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entrate tributarie del periodo gennaio - novembre 2010 mostrano un risultato superiore rispetto a quello registrato nel corrispondente periodo dell’anno passato, con un incremento netto di 7.212 milioni di euro (+1,9 per cento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Immagine 6" descr=""/>
          <p:cNvPicPr/>
          <p:nvPr/>
        </p:nvPicPr>
        <p:blipFill>
          <a:blip r:embed="rId1"/>
          <a:stretch/>
        </p:blipFill>
        <p:spPr>
          <a:xfrm>
            <a:off x="1798560" y="1689120"/>
            <a:ext cx="6869160" cy="3479760"/>
          </a:xfrm>
          <a:prstGeom prst="rect">
            <a:avLst/>
          </a:prstGeom>
          <a:ln w="0">
            <a:noFill/>
          </a:ln>
        </p:spPr>
      </p:pic>
      <p:sp>
        <p:nvSpPr>
          <p:cNvPr id="455" name="Rettangolo 4"/>
          <p:cNvSpPr/>
          <p:nvPr/>
        </p:nvSpPr>
        <p:spPr>
          <a:xfrm>
            <a:off x="576360" y="5243400"/>
            <a:ext cx="908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el periodo gennaio - novembre le entrate tributarie del bilancio dello Stato sono state pari a 361.719 milioni di euro, minori cioè rispetto a quelle registrate nello stesso periodo del 2009 (-1.489 milioni di euro, pari a –0,4 per cento). Tale variazione dipende dal risultato negativo dell’imposta sostitutiva su interessi e altri redditi da capitale, dovuto sia al previst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inor versamento a saldo (febbraio 2010) conseguente alla riduzione dei tassi d’interesse avvenuta nel 2009 e al minor gettito dell’IRES (-323 milioni di euro, pari a –0,9 per cento). L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uddetta flessione di gettito è parzialmente compensata dai risultati positivi soprattutto dell’IRE e dell’IVA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CasellaDiTesto 5"/>
          <p:cNvSpPr/>
          <p:nvPr/>
        </p:nvSpPr>
        <p:spPr>
          <a:xfrm>
            <a:off x="936720" y="2509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CONFRONTO TRA 2009 E 201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Grafico 4" descr=""/>
          <p:cNvPicPr/>
          <p:nvPr/>
        </p:nvPicPr>
        <p:blipFill>
          <a:blip r:embed="rId1"/>
          <a:stretch/>
        </p:blipFill>
        <p:spPr>
          <a:xfrm>
            <a:off x="3017880" y="1542960"/>
            <a:ext cx="6851520" cy="4546800"/>
          </a:xfrm>
          <a:prstGeom prst="rect">
            <a:avLst/>
          </a:prstGeom>
          <a:ln w="0">
            <a:noFill/>
          </a:ln>
        </p:spPr>
      </p:pic>
      <p:pic>
        <p:nvPicPr>
          <p:cNvPr id="458" name="Immagine 6" descr=""/>
          <p:cNvPicPr/>
          <p:nvPr/>
        </p:nvPicPr>
        <p:blipFill>
          <a:blip r:embed="rId2"/>
          <a:stretch/>
        </p:blipFill>
        <p:spPr>
          <a:xfrm>
            <a:off x="646200" y="1908000"/>
            <a:ext cx="2597040" cy="3370320"/>
          </a:xfrm>
          <a:prstGeom prst="rect">
            <a:avLst/>
          </a:prstGeom>
          <a:ln w="0">
            <a:noFill/>
          </a:ln>
        </p:spPr>
      </p:pic>
      <p:sp>
        <p:nvSpPr>
          <p:cNvPr id="459" name="CasellaDiTesto 9"/>
          <p:cNvSpPr/>
          <p:nvPr/>
        </p:nvSpPr>
        <p:spPr>
          <a:xfrm>
            <a:off x="1224000" y="395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BILANCIO DELLO STATO: ENTRATE TRIBUTARIE LORD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CasellaDiTesto 10"/>
          <p:cNvSpPr/>
          <p:nvPr/>
        </p:nvSpPr>
        <p:spPr>
          <a:xfrm>
            <a:off x="6840360" y="644364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ati presi dal sito del ministero delle finanz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CasellaDiTesto 11"/>
          <p:cNvSpPr/>
          <p:nvPr/>
        </p:nvSpPr>
        <p:spPr>
          <a:xfrm>
            <a:off x="719280" y="140328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en. – nov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CasellaDiTesto 1"/>
          <p:cNvSpPr/>
          <p:nvPr/>
        </p:nvSpPr>
        <p:spPr>
          <a:xfrm>
            <a:off x="1224000" y="1692360"/>
            <a:ext cx="712944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REALIZZATO DA: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5400" spc="-1" strike="noStrike">
                <a:solidFill>
                  <a:srgbClr val="000000"/>
                </a:solidFill>
                <a:latin typeface="Calibri"/>
              </a:rPr>
              <a:t>FREGONESE BETTY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5400" spc="-1" strike="noStrike">
                <a:solidFill>
                  <a:srgbClr val="000000"/>
                </a:solidFill>
                <a:latin typeface="Calibri"/>
              </a:rPr>
              <a:t>BUSO ERICA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5400" spc="-1" strike="noStrike">
                <a:solidFill>
                  <a:srgbClr val="000000"/>
                </a:solidFill>
                <a:latin typeface="Calibri"/>
              </a:rPr>
              <a:t>FUSSI MARCO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CasellaDiTesto 1"/>
          <p:cNvSpPr/>
          <p:nvPr/>
        </p:nvSpPr>
        <p:spPr>
          <a:xfrm>
            <a:off x="360360" y="900000"/>
            <a:ext cx="89996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'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RE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, cioè imposta sul reddito delle società è una imposta proporzionale e personale con aliquota del 33 % (27,5 % per i periodi d'imposta che iniziano dal 1º gennaio 2008), avente come oggetto il reddito percepito da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società di capitali, società cooperative e società di mutua assicurazione residenti nel territorio dello stato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enti pubblici ed enti  privati, diversi dalle società, nonché i  trust, residenti nel territorio dello Stato che hanno, come oggetto esclusivo o principale, l'esercizio di attività commerciali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enti pubblici ed enti privati, diversi dalle società, nonché i trust, residenti nel territorio che non hanno come oggetto l'esercizio di attività commerciale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società ed enti di qualsiasi tipo, compresi i trust, con o senza personalità giuridica, non residenti nel territorio dello Stat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È stata istituita con il d.lgs 344/2003, con la contestuale soppressione dell'IRPEG. Il legislatore ha voluto modernizzare il regime fiscale dei capitali e delle imprese facendo riferimento al modello prevalente nei Paesi dell'Unione Europe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CasellaDiTesto 1"/>
          <p:cNvSpPr/>
          <p:nvPr/>
        </p:nvSpPr>
        <p:spPr>
          <a:xfrm>
            <a:off x="900000" y="1979640"/>
            <a:ext cx="75596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MS Gothic"/>
              </a:rPr>
              <a:t>... DALLA TEORIA ALLA PRATICA.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CasellaDiTesto 4"/>
          <p:cNvSpPr/>
          <p:nvPr/>
        </p:nvSpPr>
        <p:spPr>
          <a:xfrm>
            <a:off x="6408720" y="6588000"/>
            <a:ext cx="2879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Gothic"/>
              </a:rPr>
              <a:t>Fonte: www.finanze.i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360360" y="1547640"/>
            <a:ext cx="82915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Gothic"/>
              </a:rPr>
              <a:t>Nel 2006, il 52,4% delle Società di capitali ha dichiarato  un’Imposta sul reddito delle società positiva (48,9% nel 2005), mentre il rimanente 47,6%  ha dichiarato  un’imposta negativa o nulla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99" name="Group 9"/>
          <p:cNvGrpSpPr/>
          <p:nvPr/>
        </p:nvGrpSpPr>
        <p:grpSpPr>
          <a:xfrm>
            <a:off x="503280" y="3419640"/>
            <a:ext cx="8029440" cy="1644480"/>
            <a:chOff x="503280" y="3419640"/>
            <a:chExt cx="8029440" cy="1644480"/>
          </a:xfrm>
        </p:grpSpPr>
        <p:sp>
          <p:nvSpPr>
            <p:cNvPr id="400" name="AutoShape 8"/>
            <p:cNvSpPr/>
            <p:nvPr/>
          </p:nvSpPr>
          <p:spPr>
            <a:xfrm>
              <a:off x="684000" y="3500280"/>
              <a:ext cx="7848720" cy="15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1" name="Rectangle 10"/>
            <p:cNvSpPr/>
            <p:nvPr/>
          </p:nvSpPr>
          <p:spPr>
            <a:xfrm>
              <a:off x="6600960" y="3541680"/>
              <a:ext cx="335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0000"/>
                  </a:solidFill>
                  <a:latin typeface="Calibri"/>
                </a:rPr>
                <a:t>2005</a:t>
              </a:r>
              <a:endParaRPr b="0" lang="en-US" sz="13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2" name="Rectangle 11"/>
            <p:cNvSpPr/>
            <p:nvPr/>
          </p:nvSpPr>
          <p:spPr>
            <a:xfrm>
              <a:off x="8129880" y="3541680"/>
              <a:ext cx="335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0000"/>
                  </a:solidFill>
                  <a:latin typeface="Calibri"/>
                </a:rPr>
                <a:t>2006</a:t>
              </a:r>
              <a:endParaRPr b="0" lang="en-US" sz="13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3" name="Rectangle 12"/>
            <p:cNvSpPr/>
            <p:nvPr/>
          </p:nvSpPr>
          <p:spPr>
            <a:xfrm>
              <a:off x="735480" y="3979800"/>
              <a:ext cx="2728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Società di capitali ed enti commerciali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4" name="Rectangle 13"/>
            <p:cNvSpPr/>
            <p:nvPr/>
          </p:nvSpPr>
          <p:spPr>
            <a:xfrm>
              <a:off x="6307560" y="397980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920.257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5" name="Rectangle 14"/>
            <p:cNvSpPr/>
            <p:nvPr/>
          </p:nvSpPr>
          <p:spPr>
            <a:xfrm>
              <a:off x="7834680" y="397980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961.014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6" name="Rectangle 15"/>
            <p:cNvSpPr/>
            <p:nvPr/>
          </p:nvSpPr>
          <p:spPr>
            <a:xfrm>
              <a:off x="728280" y="4351320"/>
              <a:ext cx="43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di cui: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7" name="Rectangle 16"/>
            <p:cNvSpPr/>
            <p:nvPr/>
          </p:nvSpPr>
          <p:spPr>
            <a:xfrm>
              <a:off x="732600" y="4591080"/>
              <a:ext cx="220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dichiarazioni con Ires positiva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8" name="Rectangle 17"/>
            <p:cNvSpPr/>
            <p:nvPr/>
          </p:nvSpPr>
          <p:spPr>
            <a:xfrm>
              <a:off x="6307560" y="459108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449.704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9" name="Rectangle 18"/>
            <p:cNvSpPr/>
            <p:nvPr/>
          </p:nvSpPr>
          <p:spPr>
            <a:xfrm>
              <a:off x="7834680" y="459108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503.532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0" name="Rectangle 19"/>
            <p:cNvSpPr/>
            <p:nvPr/>
          </p:nvSpPr>
          <p:spPr>
            <a:xfrm>
              <a:off x="735120" y="4832640"/>
              <a:ext cx="342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i="1" lang="it-IT" sz="1400" spc="-1" strike="noStrike">
                  <a:solidFill>
                    <a:srgbClr val="000000"/>
                  </a:solidFill>
                  <a:latin typeface="Calibri"/>
                </a:rPr>
                <a:t>- in % del totale di società ed enti commerciali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1" name="Rectangle 20"/>
            <p:cNvSpPr/>
            <p:nvPr/>
          </p:nvSpPr>
          <p:spPr>
            <a:xfrm>
              <a:off x="6577560" y="483264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Calibri"/>
                </a:rPr>
                <a:t>48,9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2" name="Rectangle 21"/>
            <p:cNvSpPr/>
            <p:nvPr/>
          </p:nvSpPr>
          <p:spPr>
            <a:xfrm>
              <a:off x="8106480" y="483264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Calibri"/>
                </a:rPr>
                <a:t>52,4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3" name="Line 22"/>
            <p:cNvSpPr/>
            <p:nvPr/>
          </p:nvSpPr>
          <p:spPr>
            <a:xfrm>
              <a:off x="691920" y="3500280"/>
              <a:ext cx="7834320" cy="360"/>
            </a:xfrm>
            <a:custGeom>
              <a:avLst/>
              <a:gdLst/>
              <a:ahLst/>
              <a:rect l="l" t="t" r="r" b="b"/>
              <a:pathLst>
                <a:path w="7834314" h="0">
                  <a:moveTo>
                    <a:pt x="0" y="0"/>
                  </a:moveTo>
                  <a:lnTo>
                    <a:pt x="7834314" y="1"/>
                  </a:lnTo>
                </a:path>
              </a:pathLst>
            </a:custGeom>
            <a:noFill/>
            <a:ln w="0">
              <a:solidFill>
                <a:srgbClr val="eeec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4" name="Rectangle 23"/>
            <p:cNvSpPr/>
            <p:nvPr/>
          </p:nvSpPr>
          <p:spPr>
            <a:xfrm>
              <a:off x="503280" y="3419640"/>
              <a:ext cx="7834320" cy="1584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5" name="Line 24"/>
            <p:cNvSpPr/>
            <p:nvPr/>
          </p:nvSpPr>
          <p:spPr>
            <a:xfrm>
              <a:off x="691920" y="3740040"/>
              <a:ext cx="7834320" cy="360"/>
            </a:xfrm>
            <a:custGeom>
              <a:avLst/>
              <a:gdLst/>
              <a:ahLst/>
              <a:rect l="l" t="t" r="r" b="b"/>
              <a:pathLst>
                <a:path w="7834314" h="0">
                  <a:moveTo>
                    <a:pt x="0" y="0"/>
                  </a:moveTo>
                  <a:lnTo>
                    <a:pt x="7834314" y="1"/>
                  </a:lnTo>
                </a:path>
              </a:pathLst>
            </a:custGeom>
            <a:noFill/>
            <a:ln w="0">
              <a:solidFill>
                <a:srgbClr val="eeec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6" name="Rectangle 25"/>
            <p:cNvSpPr/>
            <p:nvPr/>
          </p:nvSpPr>
          <p:spPr>
            <a:xfrm>
              <a:off x="691920" y="3740040"/>
              <a:ext cx="7834320" cy="1584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7" name="Line 26"/>
            <p:cNvSpPr/>
            <p:nvPr/>
          </p:nvSpPr>
          <p:spPr>
            <a:xfrm>
              <a:off x="691920" y="5048280"/>
              <a:ext cx="7834320" cy="360"/>
            </a:xfrm>
            <a:custGeom>
              <a:avLst/>
              <a:gdLst/>
              <a:ahLst/>
              <a:rect l="l" t="t" r="r" b="b"/>
              <a:pathLst>
                <a:path w="7834314" h="0">
                  <a:moveTo>
                    <a:pt x="0" y="0"/>
                  </a:moveTo>
                  <a:lnTo>
                    <a:pt x="7834314" y="1"/>
                  </a:lnTo>
                </a:path>
              </a:pathLst>
            </a:custGeom>
            <a:noFill/>
            <a:ln w="0">
              <a:solidFill>
                <a:srgbClr val="eeec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8" name="Rectangle 27"/>
            <p:cNvSpPr/>
            <p:nvPr/>
          </p:nvSpPr>
          <p:spPr>
            <a:xfrm>
              <a:off x="691920" y="5048280"/>
              <a:ext cx="7834320" cy="1584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19" name="CasellaDiTesto 29"/>
          <p:cNvSpPr/>
          <p:nvPr/>
        </p:nvSpPr>
        <p:spPr>
          <a:xfrm>
            <a:off x="647640" y="4665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I REDDITI DELLE SOCIETA’ DI CAPITAL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Immagine 2" descr=""/>
          <p:cNvPicPr/>
          <p:nvPr/>
        </p:nvPicPr>
        <p:blipFill>
          <a:blip r:embed="rId1"/>
          <a:stretch/>
        </p:blipFill>
        <p:spPr>
          <a:xfrm>
            <a:off x="1224000" y="1619280"/>
            <a:ext cx="3870360" cy="4473720"/>
          </a:xfrm>
          <a:prstGeom prst="rect">
            <a:avLst/>
          </a:prstGeom>
          <a:ln w="0">
            <a:noFill/>
          </a:ln>
        </p:spPr>
      </p:pic>
      <p:sp>
        <p:nvSpPr>
          <p:cNvPr id="421" name="CasellaDiTesto 9"/>
          <p:cNvSpPr/>
          <p:nvPr/>
        </p:nvSpPr>
        <p:spPr>
          <a:xfrm>
            <a:off x="6840360" y="6948360"/>
            <a:ext cx="28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Gothic"/>
              </a:rPr>
              <a:t>Fonte: www.finanze.i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5545080" y="1763640"/>
            <a:ext cx="36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La distribuzione delle Società di capitali con imposta positiva riflette la distribuzione del PIL fra le regioni del Nord e quelle del Centro-Sud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Tuttavia, l’imposta netta è maggiore nelle regioni del Nord, dove si concentra più del 67% dell’imposta positiva total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394560" y="1916280"/>
            <a:ext cx="75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31,9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eece1"/>
                </a:solidFill>
                <a:latin typeface="Calibri"/>
              </a:rPr>
              <a:t>47,7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Calibri"/>
              </a:rPr>
              <a:t>31,9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3566160" y="1692360"/>
            <a:ext cx="75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21,0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eece1"/>
                </a:solidFill>
                <a:latin typeface="Calibri"/>
              </a:rPr>
              <a:t>19,5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Calibri"/>
              </a:rPr>
              <a:t>22,5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1694520" y="3059280"/>
            <a:ext cx="75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25,4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eece1"/>
                </a:solidFill>
                <a:latin typeface="Calibri"/>
              </a:rPr>
              <a:t>25,6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Calibri"/>
              </a:rPr>
              <a:t>21,6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Text Box 8"/>
          <p:cNvSpPr/>
          <p:nvPr/>
        </p:nvSpPr>
        <p:spPr>
          <a:xfrm>
            <a:off x="503280" y="543564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mpres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eeec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eece1"/>
                </a:solidFill>
                <a:latin typeface="Calibri"/>
              </a:rPr>
              <a:t>  </a:t>
            </a:r>
            <a:r>
              <a:rPr b="1" lang="it-IT" sz="1800" spc="-1" strike="noStrike">
                <a:solidFill>
                  <a:srgbClr val="eeece1"/>
                </a:solidFill>
                <a:latin typeface="Calibri"/>
              </a:rPr>
              <a:t>Impost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Calibri"/>
              </a:rPr>
              <a:t>  </a:t>
            </a:r>
            <a:r>
              <a:rPr b="1" lang="it-IT" sz="1800" spc="-1" strike="noStrike">
                <a:solidFill>
                  <a:srgbClr val="ff6600"/>
                </a:solidFill>
                <a:latin typeface="Calibri"/>
              </a:rPr>
              <a:t>PI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4574520" y="4932360"/>
            <a:ext cx="75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21,7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eece1"/>
                </a:solidFill>
                <a:latin typeface="Calibri"/>
              </a:rPr>
              <a:t>  </a:t>
            </a:r>
            <a:r>
              <a:rPr b="1" lang="it-IT" sz="1800" spc="-1" strike="noStrike">
                <a:solidFill>
                  <a:srgbClr val="eeece1"/>
                </a:solidFill>
                <a:latin typeface="Calibri"/>
              </a:rPr>
              <a:t>7,2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Calibri"/>
              </a:rPr>
              <a:t>24,0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CasellaDiTesto 19"/>
          <p:cNvSpPr/>
          <p:nvPr/>
        </p:nvSpPr>
        <p:spPr>
          <a:xfrm>
            <a:off x="647640" y="39528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DOVE SONO LOCALIZZATE LE SOCIETA’ DI CAPITALI CON IMPOSTA POSITIV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CasellaDiTesto 3"/>
          <p:cNvSpPr/>
          <p:nvPr/>
        </p:nvSpPr>
        <p:spPr>
          <a:xfrm>
            <a:off x="6624720" y="6516720"/>
            <a:ext cx="270036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Gothic"/>
              </a:rPr>
              <a:t>(*) Fonte: Ista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Gothic"/>
              </a:rPr>
              <a:t>Fonte: www.finanze.i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1"/>
          <a:stretch/>
        </p:blipFill>
        <p:spPr>
          <a:xfrm>
            <a:off x="936720" y="1476360"/>
            <a:ext cx="8137440" cy="506268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2"/>
          <p:cNvSpPr/>
          <p:nvPr/>
        </p:nvSpPr>
        <p:spPr>
          <a:xfrm>
            <a:off x="287280" y="539640"/>
            <a:ext cx="914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Gothic"/>
              </a:rPr>
              <a:t>Distribuzione dell’imposta netta e incidenza sul valore aggiunto (*) per settore di attività economic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CasellaDiTesto 1"/>
          <p:cNvSpPr/>
          <p:nvPr/>
        </p:nvSpPr>
        <p:spPr>
          <a:xfrm>
            <a:off x="503280" y="1258920"/>
            <a:ext cx="90010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Gothic"/>
              </a:rPr>
              <a:t>ANALISI DEL GRAFIC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Gothic"/>
              </a:rPr>
              <a:t>Le società che contribuiscono di più all'imposta netta, in termini assoluti, sono quelle operanti nei settori dell'industria, del commercio, del credito e delle attività immobiliar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Gothic"/>
              </a:rPr>
              <a:t>In rapporto al valore aggiunto prodotto dal settore, il contributo più elevato di osserva nel settore del credito e, in secondo ordine, nell'industri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Gothic"/>
              </a:rPr>
              <a:t>COMMEN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Gothic"/>
              </a:rPr>
              <a:t>Infatti l'Italia è uno dei paesi più sviluppati e industrializzati del mondo, di conseguenza il settore che influisce maggiormente nel sistema è il terziario; pertanto le società che contribuiscono di più all'Ires sono quelle che operano in questo ambit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3"/>
          <p:cNvSpPr/>
          <p:nvPr/>
        </p:nvSpPr>
        <p:spPr>
          <a:xfrm>
            <a:off x="395280" y="1628640"/>
            <a:ext cx="829152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Gothic"/>
              </a:rPr>
              <a:t>Rispetto all’IRAP, l’IRES coinvolge in percentuale un minor numero di Società con una base imponibile e un’imposta netta positiv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34" name="Group 9"/>
          <p:cNvGrpSpPr/>
          <p:nvPr/>
        </p:nvGrpSpPr>
        <p:grpSpPr>
          <a:xfrm>
            <a:off x="684360" y="3290760"/>
            <a:ext cx="7920000" cy="1290600"/>
            <a:chOff x="684360" y="3290760"/>
            <a:chExt cx="7920000" cy="1290600"/>
          </a:xfrm>
        </p:grpSpPr>
        <p:sp>
          <p:nvSpPr>
            <p:cNvPr id="435" name="AutoShape 8"/>
            <p:cNvSpPr/>
            <p:nvPr/>
          </p:nvSpPr>
          <p:spPr>
            <a:xfrm>
              <a:off x="684360" y="3290760"/>
              <a:ext cx="7920000" cy="12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6" name="Rectangle 10"/>
            <p:cNvSpPr/>
            <p:nvPr/>
          </p:nvSpPr>
          <p:spPr>
            <a:xfrm>
              <a:off x="6016320" y="3328560"/>
              <a:ext cx="29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libri"/>
                </a:rPr>
                <a:t>Irap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7" name="Rectangle 11"/>
            <p:cNvSpPr/>
            <p:nvPr/>
          </p:nvSpPr>
          <p:spPr>
            <a:xfrm>
              <a:off x="7641360" y="3328560"/>
              <a:ext cx="27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libri"/>
                </a:rPr>
                <a:t>Ires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8" name="Rectangle 12"/>
            <p:cNvSpPr/>
            <p:nvPr/>
          </p:nvSpPr>
          <p:spPr>
            <a:xfrm>
              <a:off x="739440" y="3589200"/>
              <a:ext cx="355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Società di capitali con reddito imponibile positivo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9" name="Rectangle 13"/>
            <p:cNvSpPr/>
            <p:nvPr/>
          </p:nvSpPr>
          <p:spPr>
            <a:xfrm>
              <a:off x="5934960" y="3589200"/>
              <a:ext cx="44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64,3%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0" name="Rectangle 14"/>
            <p:cNvSpPr/>
            <p:nvPr/>
          </p:nvSpPr>
          <p:spPr>
            <a:xfrm>
              <a:off x="7551000" y="3589200"/>
              <a:ext cx="44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52,4%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1" name="Rectangle 15"/>
            <p:cNvSpPr/>
            <p:nvPr/>
          </p:nvSpPr>
          <p:spPr>
            <a:xfrm>
              <a:off x="734760" y="4098960"/>
              <a:ext cx="2830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Società di capitali con imposta positiva 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2" name="Rectangle 16"/>
            <p:cNvSpPr/>
            <p:nvPr/>
          </p:nvSpPr>
          <p:spPr>
            <a:xfrm>
              <a:off x="5934960" y="4098960"/>
              <a:ext cx="44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63,9%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3" name="Rectangle 17"/>
            <p:cNvSpPr/>
            <p:nvPr/>
          </p:nvSpPr>
          <p:spPr>
            <a:xfrm>
              <a:off x="7551000" y="4098960"/>
              <a:ext cx="44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52,4%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4" name="Rectangle 18"/>
            <p:cNvSpPr/>
            <p:nvPr/>
          </p:nvSpPr>
          <p:spPr>
            <a:xfrm>
              <a:off x="731160" y="4354560"/>
              <a:ext cx="236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Calibri"/>
                </a:rPr>
                <a:t>(quota % del totale delle società)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5" name="Line 19"/>
            <p:cNvSpPr/>
            <p:nvPr/>
          </p:nvSpPr>
          <p:spPr>
            <a:xfrm>
              <a:off x="692280" y="3544560"/>
              <a:ext cx="7905960" cy="360"/>
            </a:xfrm>
            <a:custGeom>
              <a:avLst/>
              <a:gdLst/>
              <a:ahLst/>
              <a:rect l="l" t="t" r="r" b="b"/>
              <a:pathLst>
                <a:path w="7905746" h="0">
                  <a:moveTo>
                    <a:pt x="0" y="0"/>
                  </a:moveTo>
                  <a:lnTo>
                    <a:pt x="7905746" y="1"/>
                  </a:lnTo>
                </a:path>
              </a:pathLst>
            </a:custGeom>
            <a:noFill/>
            <a:ln w="0">
              <a:solidFill>
                <a:srgbClr val="eeec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6" name="Rectangle 20"/>
            <p:cNvSpPr/>
            <p:nvPr/>
          </p:nvSpPr>
          <p:spPr>
            <a:xfrm>
              <a:off x="692280" y="3544560"/>
              <a:ext cx="7905960" cy="1728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7" name="Line 21"/>
            <p:cNvSpPr/>
            <p:nvPr/>
          </p:nvSpPr>
          <p:spPr>
            <a:xfrm>
              <a:off x="692280" y="4564080"/>
              <a:ext cx="7905960" cy="360"/>
            </a:xfrm>
            <a:custGeom>
              <a:avLst/>
              <a:gdLst/>
              <a:ahLst/>
              <a:rect l="l" t="t" r="r" b="b"/>
              <a:pathLst>
                <a:path w="7905746" h="0">
                  <a:moveTo>
                    <a:pt x="0" y="0"/>
                  </a:moveTo>
                  <a:lnTo>
                    <a:pt x="7905746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8" name="Rectangle 22"/>
            <p:cNvSpPr/>
            <p:nvPr/>
          </p:nvSpPr>
          <p:spPr>
            <a:xfrm>
              <a:off x="692280" y="4564080"/>
              <a:ext cx="7905960" cy="1728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49" name="Rectangle 2"/>
          <p:cNvSpPr/>
          <p:nvPr/>
        </p:nvSpPr>
        <p:spPr>
          <a:xfrm>
            <a:off x="425520" y="836640"/>
            <a:ext cx="8291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MS Gothic"/>
              </a:rPr>
              <a:t>La relazione tra IRAP e IR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CasellaDiTesto 18"/>
          <p:cNvSpPr/>
          <p:nvPr/>
        </p:nvSpPr>
        <p:spPr>
          <a:xfrm>
            <a:off x="6624720" y="6516720"/>
            <a:ext cx="2879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Gothic"/>
              </a:rPr>
              <a:t>Fonte: www.finanze.i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3"/>
          <p:cNvSpPr/>
          <p:nvPr/>
        </p:nvSpPr>
        <p:spPr>
          <a:xfrm>
            <a:off x="250920" y="1413000"/>
            <a:ext cx="83134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63640" indent="-324000" algn="just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Gothic"/>
              </a:rPr>
              <a:t>In Italia vi sono meno di 1 milione di contribuenti IRES e la gran parte sono S.r.l. la cui presenza relativa si è incrementata negli ultimi ann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3640" indent="-324000" algn="just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Gothic"/>
              </a:rPr>
              <a:t>La dimensione delle Società di capitali è piuttosto limitata e solo l’1% delle Società ha una dimensione superiore ai 50 milioni di componenti positivi IRAP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3640" indent="-324000" algn="just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Gothic"/>
              </a:rPr>
              <a:t>Nel 2006, il 52% delle Società di capitali ha dichiarato un’imposta netta positiva, il rimanente 48% ha imposta negativa o null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3640" indent="-324000" algn="just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Gothic"/>
              </a:rPr>
              <a:t>La distribuzione dell'imposta netta è fortemente concentrata sulle imprese di dimensioni maggiori e lo 0,8%  delle Società di capitali dichiara il 60% dell’imposta nett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08:39:57Z</dcterms:created>
  <dc:creator>ISTITUTO TECNICO STATALE COM</dc:creator>
  <dc:description/>
  <dc:language>en-US</dc:language>
  <cp:lastModifiedBy>Fregonese Flavio</cp:lastModifiedBy>
  <dcterms:modified xsi:type="dcterms:W3CDTF">2011-03-24T15:21:55Z</dcterms:modified>
  <cp:revision>1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